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2ED-DA41-458E-AD9D-9DE0110B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909-8FF5-4C6E-80CD-1FA14178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4F7-FAA3-44FB-BE8F-7A3F5B2C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3D6-13AB-4282-8FD2-D1DCA98D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FF91-889B-4E45-B6E5-137F3D6B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1B04-EC9C-43EC-A755-A8E95315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5DCA-9B36-422E-B6E0-595BC391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4204-E321-4F3D-90BB-FCAE5FAC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83F8-DD8E-4F0B-BAF3-DD138A00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A515-B4B5-4A25-817A-0C3F170D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67ED-B56A-4CB9-A9D2-2628B998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81B-F494-49CF-8995-F9A3B9C8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3CD4-6B14-40E9-9C48-C7D6E064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0A92-7F13-4542-B753-5D7A497D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CE12-80C4-4D1C-AE0E-13436238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F685-6BD6-4BAE-8181-3ECECCE5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70D8-6680-4985-A825-10BB204E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EF0-E6D1-4470-A649-D9E01C74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9AB-1AD3-4E01-A76E-E507124A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B3D-4702-4490-958C-E2AF6491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51C-06D0-433D-AEF6-BC7523A8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E80-0A11-4BDB-8ED7-982F6E35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E8F-E807-49B7-B434-48EA231C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559-7BFC-4F2D-9CFF-613CB4D9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FAD0-43C8-48C6-A418-BCA70CB7F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6E82-A227-4338-AAF7-6DE98E64B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ech.groups.yahoo.com/group/wordfast/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ordfast.net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Wordfast Training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vel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ep 2: Check the training gui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028000" cy="2962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87280" y="3141720"/>
            <a:ext cx="77616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ep 3: WF Knowledge Ba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380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ep 4: YahooGroup listserv SEARC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6989760" cy="2971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82947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ep 5: YahooGroup listserv POST HELP TOP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8294760" cy="3953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116000" y="1852560"/>
            <a:ext cx="6985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ep 6: If all else fails, e-mail your trainer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69595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use CAT tool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vides a more comfortable working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void skipping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void having to re-create layout and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rce and target stay in the same document, making revision eas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use a TM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lation memory is the key to cos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itutes a huge resource pool that is easily and efficient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faster and better translations, up to 80% more cost-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M’s contribute to your intellectual property – your company becomes more valuab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use a TM? (Cont.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lation Memory assets increasingly represent 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rateg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rporate asset, worth, in some cases, millions of dollars, and supporting hundreds of millions of dollars of international busin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www.lis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use glossary tool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ent terminology is essential for corporate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t productivity g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longer have to search in excel or printed gloss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longer have to type the word once you’ve found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ontrol, no typing – no mistake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reinvent the wheel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waste time retranslating something you already translated one month or ten years ag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ve time - save money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etting Started: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ww.wordfast.n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844640"/>
            <a:ext cx="2324160" cy="2409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411280" y="3500280"/>
            <a:ext cx="6553440" cy="2565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84360" y="4006800"/>
            <a:ext cx="1079640" cy="358920"/>
          </a:xfrm>
          <a:prstGeom prst="ellipse">
            <a:avLst/>
          </a:prstGeom>
          <a:noFill/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4437000"/>
            <a:ext cx="1079640" cy="360360"/>
          </a:xfrm>
          <a:prstGeom prst="ellipse">
            <a:avLst/>
          </a:prstGeom>
          <a:noFill/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forget the manual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830240"/>
            <a:ext cx="8351640" cy="4873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H="1">
            <a:off x="5219280" y="5300640"/>
            <a:ext cx="11509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hen you get stuck, follow these 6 easy steps…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ult the manu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check the contents or use “ctl+F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616284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79600" y="2970360"/>
            <a:ext cx="68374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9:36:05Z</dcterms:created>
  <dc:creator> </dc:creator>
  <dc:description/>
  <dc:language>en-US</dc:language>
  <cp:lastModifiedBy> </cp:lastModifiedBy>
  <dcterms:modified xsi:type="dcterms:W3CDTF">2008-02-11T08:16:28Z</dcterms:modified>
  <cp:revision>14</cp:revision>
  <dc:subject/>
  <dc:title>Wordfast Training</dc:title>
</cp:coreProperties>
</file>