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1DD-96BD-4738-8182-A8A4D5FD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is is a really boring powerpoint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uld you please add some color! Well, if you are using Wordfast Pro I guess it doesn’t really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n I get one basic, two advanced and four Sophisticateds, hold the onions on those last f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4DF-A6AB-4412-8260-1D912ECB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ADB-2528-4037-B161-D078559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A93-C55A-4982-B433-079841D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F4F-5AC5-42F1-A92D-1E061927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235-4876-430C-BCD5-833C7C18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5AC-4A1B-4830-BBE7-260A84E5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E13-9966-4D79-97E6-152D1BD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1B1-CDEE-4B3D-83E9-3E7802AA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587-16F7-4241-94F5-D559742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5D9-7872-4123-8305-9BCE455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9EE-AE51-4B4D-8836-5A3DD36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A23-6259-4710-96CB-6BC67AB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8DE-32DE-4656-B2D2-7A1023A46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joint Research: Additional 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. 2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057400"/>
            <a:ext cx="1981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057400"/>
            <a:ext cx="1981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057400"/>
            <a:ext cx="1981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2057400"/>
            <a:ext cx="1981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8880" y="38703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 m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9440" y="38703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9040" y="387036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5 m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8120" y="38703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m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Capability (U.S., France, Ger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57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7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560" y="762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3760" y="76212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160" y="7621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5680" y="762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phis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62920" y="2819520"/>
            <a:ext cx="1828800" cy="1377360"/>
            <a:chOff x="7162920" y="2819520"/>
            <a:chExt cx="1828800" cy="1377360"/>
          </a:xfrm>
        </p:grpSpPr>
        <p:sp>
          <p:nvSpPr>
            <p:cNvPr id="71" name=""/>
            <p:cNvSpPr/>
            <p:nvPr/>
          </p:nvSpPr>
          <p:spPr>
            <a:xfrm>
              <a:off x="7230600" y="2819520"/>
              <a:ext cx="1693440" cy="137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2920" y="2819520"/>
              <a:ext cx="1828800" cy="13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8:15 p.m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range. In the last 3 months, your post-dinner readings have been excellent: You’ve only been out of range 1 tim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238880" y="4343400"/>
            <a:ext cx="1676520" cy="1279440"/>
            <a:chOff x="7238880" y="4343400"/>
            <a:chExt cx="1676520" cy="1279440"/>
          </a:xfrm>
        </p:grpSpPr>
        <p:sp>
          <p:nvSpPr>
            <p:cNvPr id="74" name=""/>
            <p:cNvSpPr/>
            <p:nvPr/>
          </p:nvSpPr>
          <p:spPr>
            <a:xfrm>
              <a:off x="7238880" y="4357800"/>
              <a:ext cx="14018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y 22 - Aug 22 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1c Estim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______________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19960" y="49608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.9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4343400"/>
              <a:ext cx="1676520" cy="127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0" y="1295280"/>
            <a:ext cx="1676160" cy="1255680"/>
            <a:chOff x="0" y="1295280"/>
            <a:chExt cx="1676160" cy="1255680"/>
          </a:xfrm>
        </p:grpSpPr>
        <p:sp>
          <p:nvSpPr>
            <p:cNvPr id="78" name=""/>
            <p:cNvSpPr/>
            <p:nvPr/>
          </p:nvSpPr>
          <p:spPr>
            <a:xfrm>
              <a:off x="145440" y="130932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58832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0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720" y="129528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828800" y="1295280"/>
            <a:ext cx="1676160" cy="1255680"/>
            <a:chOff x="1828800" y="1295280"/>
            <a:chExt cx="1676160" cy="1255680"/>
          </a:xfrm>
        </p:grpSpPr>
        <p:sp>
          <p:nvSpPr>
            <p:cNvPr id="82" name=""/>
            <p:cNvSpPr/>
            <p:nvPr/>
          </p:nvSpPr>
          <p:spPr>
            <a:xfrm>
              <a:off x="1974240" y="130932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158832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0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1520" y="129528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581280" y="1371600"/>
            <a:ext cx="1676160" cy="1270440"/>
            <a:chOff x="3581280" y="1371600"/>
            <a:chExt cx="1676160" cy="1270440"/>
          </a:xfrm>
        </p:grpSpPr>
        <p:sp>
          <p:nvSpPr>
            <p:cNvPr id="86" name=""/>
            <p:cNvSpPr/>
            <p:nvPr/>
          </p:nvSpPr>
          <p:spPr>
            <a:xfrm>
              <a:off x="3726720" y="138564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1280" y="1664640"/>
              <a:ext cx="16354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0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4000" y="137160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4120" y="1397160"/>
            <a:ext cx="1675800" cy="1270440"/>
            <a:chOff x="5334120" y="1397160"/>
            <a:chExt cx="1675800" cy="1270440"/>
          </a:xfrm>
        </p:grpSpPr>
        <p:sp>
          <p:nvSpPr>
            <p:cNvPr id="90" name=""/>
            <p:cNvSpPr/>
            <p:nvPr/>
          </p:nvSpPr>
          <p:spPr>
            <a:xfrm>
              <a:off x="5479560" y="1411200"/>
              <a:ext cx="153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1690200"/>
              <a:ext cx="163512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0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06840" y="1397160"/>
              <a:ext cx="1603080" cy="1255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28800" y="2743200"/>
            <a:ext cx="1676160" cy="1255680"/>
            <a:chOff x="1828800" y="2743200"/>
            <a:chExt cx="1676160" cy="1255680"/>
          </a:xfrm>
        </p:grpSpPr>
        <p:sp>
          <p:nvSpPr>
            <p:cNvPr id="94" name=""/>
            <p:cNvSpPr/>
            <p:nvPr/>
          </p:nvSpPr>
          <p:spPr>
            <a:xfrm>
              <a:off x="1974240" y="275724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303624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1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1520" y="274320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2819520"/>
            <a:ext cx="1676160" cy="1255680"/>
            <a:chOff x="3581280" y="2819520"/>
            <a:chExt cx="1676160" cy="1255680"/>
          </a:xfrm>
        </p:grpSpPr>
        <p:sp>
          <p:nvSpPr>
            <p:cNvPr id="98" name=""/>
            <p:cNvSpPr/>
            <p:nvPr/>
          </p:nvSpPr>
          <p:spPr>
            <a:xfrm>
              <a:off x="3726720" y="283356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11256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1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4000" y="281952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2859120"/>
            <a:ext cx="1676160" cy="1255680"/>
            <a:chOff x="5410080" y="2859120"/>
            <a:chExt cx="1676160" cy="1255680"/>
          </a:xfrm>
        </p:grpSpPr>
        <p:sp>
          <p:nvSpPr>
            <p:cNvPr id="102" name=""/>
            <p:cNvSpPr/>
            <p:nvPr/>
          </p:nvSpPr>
          <p:spPr>
            <a:xfrm>
              <a:off x="5555520" y="287316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315216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1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2800" y="285912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410080" y="4267080"/>
            <a:ext cx="1752480" cy="1616760"/>
            <a:chOff x="5410080" y="4267080"/>
            <a:chExt cx="1752480" cy="1616760"/>
          </a:xfrm>
        </p:grpSpPr>
        <p:sp>
          <p:nvSpPr>
            <p:cNvPr id="106" name=""/>
            <p:cNvSpPr/>
            <p:nvPr/>
          </p:nvSpPr>
          <p:spPr>
            <a:xfrm>
              <a:off x="5475240" y="426708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10080" y="4267080"/>
              <a:ext cx="175248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time of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1280" y="4267080"/>
            <a:ext cx="1752480" cy="1616760"/>
            <a:chOff x="3581280" y="4267080"/>
            <a:chExt cx="1752480" cy="1616760"/>
          </a:xfrm>
        </p:grpSpPr>
        <p:sp>
          <p:nvSpPr>
            <p:cNvPr id="109" name=""/>
            <p:cNvSpPr/>
            <p:nvPr/>
          </p:nvSpPr>
          <p:spPr>
            <a:xfrm>
              <a:off x="3646440" y="426708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4267080"/>
              <a:ext cx="175248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time of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1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162920" y="1371600"/>
            <a:ext cx="1752480" cy="1464480"/>
            <a:chOff x="7162920" y="1371600"/>
            <a:chExt cx="1752480" cy="1464480"/>
          </a:xfrm>
        </p:grpSpPr>
        <p:sp>
          <p:nvSpPr>
            <p:cNvPr id="112" name=""/>
            <p:cNvSpPr/>
            <p:nvPr/>
          </p:nvSpPr>
          <p:spPr>
            <a:xfrm>
              <a:off x="7228080" y="137160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2920" y="1371600"/>
              <a:ext cx="17524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Exerc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exercis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1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uring exercise  1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er exercise      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Capability (U.K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7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77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560" y="762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3760" y="76212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160" y="7621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5680" y="762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phis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162920" y="2819520"/>
            <a:ext cx="1828800" cy="1377360"/>
            <a:chOff x="7162920" y="2819520"/>
            <a:chExt cx="1828800" cy="1377360"/>
          </a:xfrm>
        </p:grpSpPr>
        <p:sp>
          <p:nvSpPr>
            <p:cNvPr id="126" name=""/>
            <p:cNvSpPr/>
            <p:nvPr/>
          </p:nvSpPr>
          <p:spPr>
            <a:xfrm>
              <a:off x="7230600" y="2819520"/>
              <a:ext cx="1693440" cy="1377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2819520"/>
              <a:ext cx="1828800" cy="13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8:15 p.m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 range. In the last 3 months, your post-dinner readings have been excellent: You’ve only been out of range 1 tim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238880" y="4343400"/>
            <a:ext cx="1676520" cy="1279440"/>
            <a:chOff x="7238880" y="4343400"/>
            <a:chExt cx="1676520" cy="1279440"/>
          </a:xfrm>
        </p:grpSpPr>
        <p:sp>
          <p:nvSpPr>
            <p:cNvPr id="129" name=""/>
            <p:cNvSpPr/>
            <p:nvPr/>
          </p:nvSpPr>
          <p:spPr>
            <a:xfrm>
              <a:off x="7238880" y="4357800"/>
              <a:ext cx="14018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y 22 - Aug 22 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1c Estim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______________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19960" y="496080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.9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38880" y="4343400"/>
              <a:ext cx="1676520" cy="127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1295280"/>
            <a:ext cx="1676160" cy="1255680"/>
            <a:chOff x="0" y="1295280"/>
            <a:chExt cx="1676160" cy="1255680"/>
          </a:xfrm>
        </p:grpSpPr>
        <p:sp>
          <p:nvSpPr>
            <p:cNvPr id="133" name=""/>
            <p:cNvSpPr/>
            <p:nvPr/>
          </p:nvSpPr>
          <p:spPr>
            <a:xfrm>
              <a:off x="145440" y="130932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58832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720" y="129528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828800" y="1295280"/>
            <a:ext cx="1676160" cy="1255680"/>
            <a:chOff x="1828800" y="1295280"/>
            <a:chExt cx="1676160" cy="1255680"/>
          </a:xfrm>
        </p:grpSpPr>
        <p:sp>
          <p:nvSpPr>
            <p:cNvPr id="137" name=""/>
            <p:cNvSpPr/>
            <p:nvPr/>
          </p:nvSpPr>
          <p:spPr>
            <a:xfrm>
              <a:off x="1974240" y="130932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8800" y="158832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1520" y="129528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81280" y="1371600"/>
            <a:ext cx="1676160" cy="1255680"/>
            <a:chOff x="3581280" y="1371600"/>
            <a:chExt cx="1676160" cy="1255680"/>
          </a:xfrm>
        </p:grpSpPr>
        <p:sp>
          <p:nvSpPr>
            <p:cNvPr id="141" name=""/>
            <p:cNvSpPr/>
            <p:nvPr/>
          </p:nvSpPr>
          <p:spPr>
            <a:xfrm>
              <a:off x="3726720" y="1385640"/>
              <a:ext cx="153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166464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4000" y="137160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334120" y="1397160"/>
            <a:ext cx="1675800" cy="1255680"/>
            <a:chOff x="5334120" y="1397160"/>
            <a:chExt cx="1675800" cy="1255680"/>
          </a:xfrm>
        </p:grpSpPr>
        <p:sp>
          <p:nvSpPr>
            <p:cNvPr id="145" name=""/>
            <p:cNvSpPr/>
            <p:nvPr/>
          </p:nvSpPr>
          <p:spPr>
            <a:xfrm>
              <a:off x="5479560" y="1411200"/>
              <a:ext cx="153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pt 8, 2004 10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4120" y="1690200"/>
              <a:ext cx="163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06840" y="1397160"/>
              <a:ext cx="160308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828800" y="2743200"/>
            <a:ext cx="1676160" cy="1255680"/>
            <a:chOff x="1828800" y="2743200"/>
            <a:chExt cx="1676160" cy="1255680"/>
          </a:xfrm>
        </p:grpSpPr>
        <p:sp>
          <p:nvSpPr>
            <p:cNvPr id="149" name=""/>
            <p:cNvSpPr/>
            <p:nvPr/>
          </p:nvSpPr>
          <p:spPr>
            <a:xfrm>
              <a:off x="1974240" y="275724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03624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1520" y="274320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581280" y="2819520"/>
            <a:ext cx="1676160" cy="1255680"/>
            <a:chOff x="3581280" y="2819520"/>
            <a:chExt cx="1676160" cy="1255680"/>
          </a:xfrm>
        </p:grpSpPr>
        <p:sp>
          <p:nvSpPr>
            <p:cNvPr id="153" name=""/>
            <p:cNvSpPr/>
            <p:nvPr/>
          </p:nvSpPr>
          <p:spPr>
            <a:xfrm>
              <a:off x="3726720" y="283356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1280" y="311256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4000" y="281952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410080" y="2859120"/>
            <a:ext cx="1676160" cy="1255680"/>
            <a:chOff x="5410080" y="2859120"/>
            <a:chExt cx="1676160" cy="1255680"/>
          </a:xfrm>
        </p:grpSpPr>
        <p:sp>
          <p:nvSpPr>
            <p:cNvPr id="157" name=""/>
            <p:cNvSpPr/>
            <p:nvPr/>
          </p:nvSpPr>
          <p:spPr>
            <a:xfrm>
              <a:off x="5555520" y="2873160"/>
              <a:ext cx="153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4-day A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3152160"/>
              <a:ext cx="163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82800" y="2859120"/>
              <a:ext cx="1603440" cy="1255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4267080"/>
            <a:ext cx="1752480" cy="1616760"/>
            <a:chOff x="1828800" y="4267080"/>
            <a:chExt cx="1752480" cy="1616760"/>
          </a:xfrm>
        </p:grpSpPr>
        <p:sp>
          <p:nvSpPr>
            <p:cNvPr id="161" name=""/>
            <p:cNvSpPr/>
            <p:nvPr/>
          </p:nvSpPr>
          <p:spPr>
            <a:xfrm>
              <a:off x="1893960" y="426708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267080"/>
              <a:ext cx="175248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time of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5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4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9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4267080"/>
            <a:ext cx="1752480" cy="1616760"/>
            <a:chOff x="5410080" y="4267080"/>
            <a:chExt cx="1752480" cy="1616760"/>
          </a:xfrm>
        </p:grpSpPr>
        <p:sp>
          <p:nvSpPr>
            <p:cNvPr id="164" name=""/>
            <p:cNvSpPr/>
            <p:nvPr/>
          </p:nvSpPr>
          <p:spPr>
            <a:xfrm>
              <a:off x="5475240" y="426708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4267080"/>
              <a:ext cx="175248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time of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5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4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9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81280" y="4267080"/>
            <a:ext cx="1752480" cy="1769040"/>
            <a:chOff x="3581280" y="4267080"/>
            <a:chExt cx="1752480" cy="1769040"/>
          </a:xfrm>
        </p:grpSpPr>
        <p:sp>
          <p:nvSpPr>
            <p:cNvPr id="167" name=""/>
            <p:cNvSpPr/>
            <p:nvPr/>
          </p:nvSpPr>
          <p:spPr>
            <a:xfrm>
              <a:off x="3646440" y="426708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1280" y="4267080"/>
              <a:ext cx="175248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time of d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5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Brkf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4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Lunch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 Dinn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9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62920" y="1371600"/>
            <a:ext cx="1752480" cy="1464480"/>
            <a:chOff x="7162920" y="1371600"/>
            <a:chExt cx="1752480" cy="1464480"/>
          </a:xfrm>
        </p:grpSpPr>
        <p:sp>
          <p:nvSpPr>
            <p:cNvPr id="170" name=""/>
            <p:cNvSpPr/>
            <p:nvPr/>
          </p:nvSpPr>
          <p:spPr>
            <a:xfrm>
              <a:off x="7228080" y="1371600"/>
              <a:ext cx="162252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1371600"/>
              <a:ext cx="17524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vg. by Exerc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Bef exercise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  1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uring exercise  1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fter exercise      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09480" y="1087560"/>
            <a:ext cx="1905120" cy="1599840"/>
            <a:chOff x="609480" y="1087560"/>
            <a:chExt cx="1905120" cy="1599840"/>
          </a:xfrm>
        </p:grpSpPr>
        <p:sp>
          <p:nvSpPr>
            <p:cNvPr id="173" name=""/>
            <p:cNvSpPr/>
            <p:nvPr/>
          </p:nvSpPr>
          <p:spPr>
            <a:xfrm>
              <a:off x="914400" y="1105920"/>
              <a:ext cx="14479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y 22 - Aug 22 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1c Est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______________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89280" y="18597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.9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1087560"/>
              <a:ext cx="190512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72200" y="1087560"/>
            <a:ext cx="1904760" cy="1599840"/>
            <a:chOff x="6172200" y="1087560"/>
            <a:chExt cx="1904760" cy="1599840"/>
          </a:xfrm>
        </p:grpSpPr>
        <p:sp>
          <p:nvSpPr>
            <p:cNvPr id="177" name=""/>
            <p:cNvSpPr/>
            <p:nvPr/>
          </p:nvSpPr>
          <p:spPr>
            <a:xfrm>
              <a:off x="6172200" y="1087560"/>
              <a:ext cx="190476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160" y="1087560"/>
              <a:ext cx="1828800" cy="14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vere Hypo W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 are at risk of severe low blood glucose in the next 24 hours. Please watch physical exertion and food intake carefully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054920" y="619272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59600" y="6192720"/>
            <a:ext cx="1413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54920" y="65484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59600" y="654840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72280" y="152280"/>
            <a:ext cx="72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 5 Supplemental Diagnosti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.S., Germany, France) p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680" y="27637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c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5080" y="284004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Glucose 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9640" y="284004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ility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31080" y="619272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ulin Sensitivity estim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1106640"/>
            <a:ext cx="175248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y 22 - Aug 22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-day Glucose Var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3960" y="17575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08756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1240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having more frequent swings in your blood sugars late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0800" y="436392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02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363920"/>
            <a:ext cx="21337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592520"/>
            <a:ext cx="2057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ugg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ed post injection blood glucose of 72. Consider smaller dose (3.5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36392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4410000"/>
            <a:ext cx="182880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g/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many units of insul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390672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462720" y="4363920"/>
            <a:ext cx="2224080" cy="1981080"/>
            <a:chOff x="6462720" y="4363920"/>
            <a:chExt cx="2224080" cy="1981080"/>
          </a:xfrm>
        </p:grpSpPr>
        <p:sp>
          <p:nvSpPr>
            <p:cNvPr id="199" name=""/>
            <p:cNvSpPr/>
            <p:nvPr/>
          </p:nvSpPr>
          <p:spPr>
            <a:xfrm>
              <a:off x="7269120" y="6339960"/>
              <a:ext cx="4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73800" y="6339960"/>
              <a:ext cx="141300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38680" y="4363920"/>
              <a:ext cx="1905120" cy="1629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62720" y="436392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7:45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You have not tested at bedtime for several weeks. You may want to test before bedtime to make sure you’re in rang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392160" y="608472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ing recomme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5126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838080" y="1239840"/>
            <a:ext cx="2057400" cy="1523520"/>
            <a:chOff x="838080" y="1239840"/>
            <a:chExt cx="2057400" cy="1523520"/>
          </a:xfrm>
        </p:grpSpPr>
        <p:sp>
          <p:nvSpPr>
            <p:cNvPr id="206" name=""/>
            <p:cNvSpPr/>
            <p:nvPr/>
          </p:nvSpPr>
          <p:spPr>
            <a:xfrm>
              <a:off x="914400" y="1239840"/>
              <a:ext cx="1905120" cy="1523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23984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8:15 p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 are right in your target range. In the last 3 months, your post-dinner readings have been excellent: You’ve only been out of range 1 tim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84320" y="296064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CP Recco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3240" y="635940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od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0720" y="628344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ulin Calc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54920" y="619272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6192720"/>
            <a:ext cx="1413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54920" y="64976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59600" y="649764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685332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4480" y="4454640"/>
            <a:ext cx="14112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85200" y="1940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9880" y="194004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480" y="4759200"/>
            <a:ext cx="14112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85200" y="224460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4480" y="5114880"/>
            <a:ext cx="14112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85200" y="26002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9880" y="260028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477120" y="1239840"/>
            <a:ext cx="2057400" cy="1599840"/>
            <a:chOff x="6477120" y="1239840"/>
            <a:chExt cx="2057400" cy="1599840"/>
          </a:xfrm>
        </p:grpSpPr>
        <p:sp>
          <p:nvSpPr>
            <p:cNvPr id="225" name=""/>
            <p:cNvSpPr/>
            <p:nvPr/>
          </p:nvSpPr>
          <p:spPr>
            <a:xfrm>
              <a:off x="6553440" y="1239840"/>
              <a:ext cx="190476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123984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8:0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ve you changed your medication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 you eating less than usual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 you exercising more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re questions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619440" y="1239840"/>
            <a:ext cx="1905120" cy="1599840"/>
            <a:chOff x="3619440" y="1239840"/>
            <a:chExt cx="1905120" cy="1599840"/>
          </a:xfrm>
        </p:grpSpPr>
        <p:sp>
          <p:nvSpPr>
            <p:cNvPr id="228" name=""/>
            <p:cNvSpPr/>
            <p:nvPr/>
          </p:nvSpPr>
          <p:spPr>
            <a:xfrm>
              <a:off x="3619440" y="1239840"/>
              <a:ext cx="190512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95760" y="1239840"/>
              <a:ext cx="18288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1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g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r glucose averages 55 mg / dL before lunch. You may want to try a larger breakfas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213280" y="29923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08756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466884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4668840"/>
            <a:ext cx="1828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60 mg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many carbs will you have for l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4668840"/>
            <a:ext cx="190476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4668840"/>
            <a:ext cx="18288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lucose 125 mg/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ulin Dose Estim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0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0 M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522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 5 Supplemental Diagnosti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.S., Germany, France) p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5826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5064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437832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09480" y="4606920"/>
            <a:ext cx="1981440" cy="1798200"/>
            <a:chOff x="609480" y="4606920"/>
            <a:chExt cx="1981440" cy="1798200"/>
          </a:xfrm>
        </p:grpSpPr>
        <p:sp>
          <p:nvSpPr>
            <p:cNvPr id="241" name=""/>
            <p:cNvSpPr/>
            <p:nvPr/>
          </p:nvSpPr>
          <p:spPr>
            <a:xfrm>
              <a:off x="609480" y="4668840"/>
              <a:ext cx="1905120" cy="160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9480" y="4606920"/>
              <a:ext cx="198144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2:02 p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Lun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 large salad  30 ca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 small coke   20 ca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d another. Press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tal:           50 carbs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09480" y="1316160"/>
            <a:ext cx="1905120" cy="1599840"/>
            <a:chOff x="609480" y="1316160"/>
            <a:chExt cx="1905120" cy="1599840"/>
          </a:xfrm>
        </p:grpSpPr>
        <p:sp>
          <p:nvSpPr>
            <p:cNvPr id="244" name=""/>
            <p:cNvSpPr/>
            <p:nvPr/>
          </p:nvSpPr>
          <p:spPr>
            <a:xfrm>
              <a:off x="914400" y="1334520"/>
              <a:ext cx="144792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y 22 - Aug 22 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1c Est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__________________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89280" y="2088360"/>
              <a:ext cx="12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.9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80" y="1316160"/>
              <a:ext cx="190512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72200" y="1316160"/>
            <a:ext cx="1904760" cy="1599840"/>
            <a:chOff x="6172200" y="1316160"/>
            <a:chExt cx="1904760" cy="1599840"/>
          </a:xfrm>
        </p:grpSpPr>
        <p:sp>
          <p:nvSpPr>
            <p:cNvPr id="248" name=""/>
            <p:cNvSpPr/>
            <p:nvPr/>
          </p:nvSpPr>
          <p:spPr>
            <a:xfrm>
              <a:off x="6172200" y="1316160"/>
              <a:ext cx="190476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160" y="1316160"/>
              <a:ext cx="1828800" cy="14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vere Hypo W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 are at risk of severe low blood glucose in the next 24 hours. Please watch physical exertion and food intake carefully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054920" y="642132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59600" y="6421320"/>
            <a:ext cx="1413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54920" y="67770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59600" y="677700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2200" y="22860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 5 Supplemental Diagnosti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K) p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1680" y="29923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c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5080" y="306864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Glucose 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9640" y="306864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ility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31080" y="642132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ulin Sensitivity estim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5320" y="1335240"/>
            <a:ext cx="175248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y 22 - Aug 22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-day Glucose Var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3960" y="1986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131616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23526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are having more frequent swings in your blood sugars late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20800" y="459252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02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4592520"/>
            <a:ext cx="21337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4821120"/>
            <a:ext cx="2057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ugg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dicted post injection blood glucose of 4.2 mmol/dL.  Consider smaller dose (3.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59252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638600"/>
            <a:ext cx="182880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mol/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many units of insul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413532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462720" y="4592520"/>
            <a:ext cx="2224080" cy="1981080"/>
            <a:chOff x="6462720" y="4592520"/>
            <a:chExt cx="2224080" cy="1981080"/>
          </a:xfrm>
        </p:grpSpPr>
        <p:sp>
          <p:nvSpPr>
            <p:cNvPr id="270" name=""/>
            <p:cNvSpPr/>
            <p:nvPr/>
          </p:nvSpPr>
          <p:spPr>
            <a:xfrm>
              <a:off x="7269120" y="6568560"/>
              <a:ext cx="4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3800" y="6568560"/>
              <a:ext cx="141300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38680" y="4592520"/>
              <a:ext cx="1905120" cy="1629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62720" y="459252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7:45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.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You have not tested at bedtime for several weeks. You may want to test before bedtime to make sure you’re in rang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391080" y="631332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ing Recomme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354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838080" y="1316160"/>
            <a:ext cx="2057400" cy="1523520"/>
            <a:chOff x="838080" y="1316160"/>
            <a:chExt cx="2057400" cy="1523520"/>
          </a:xfrm>
        </p:grpSpPr>
        <p:sp>
          <p:nvSpPr>
            <p:cNvPr id="277" name=""/>
            <p:cNvSpPr/>
            <p:nvPr/>
          </p:nvSpPr>
          <p:spPr>
            <a:xfrm>
              <a:off x="914400" y="1316160"/>
              <a:ext cx="1905120" cy="1523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31616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8:15 p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 are right in your target range. In the last 3 months, your post-dinner readings have been excellent: You’ve only been out of range 1 time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484320" y="303696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CP Reccos/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7960" y="643572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od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0720" y="63594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ulin Calc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54920" y="6269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59600" y="626904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54920" y="65739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59600" y="657396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54920" y="692928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530600"/>
            <a:ext cx="14112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85200" y="201600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89880" y="2016000"/>
            <a:ext cx="1413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4480" y="4835520"/>
            <a:ext cx="14112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85200" y="232092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4480" y="5191200"/>
            <a:ext cx="14112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85200" y="2676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89880" y="2676600"/>
            <a:ext cx="1413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77120" y="1316160"/>
            <a:ext cx="2057400" cy="1599840"/>
            <a:chOff x="6477120" y="1316160"/>
            <a:chExt cx="2057400" cy="1599840"/>
          </a:xfrm>
        </p:grpSpPr>
        <p:sp>
          <p:nvSpPr>
            <p:cNvPr id="296" name=""/>
            <p:cNvSpPr/>
            <p:nvPr/>
          </p:nvSpPr>
          <p:spPr>
            <a:xfrm>
              <a:off x="6553440" y="1316160"/>
              <a:ext cx="190476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77120" y="1316160"/>
              <a:ext cx="2057400" cy="14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8:0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ve you changed your medication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 you eating less than usual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e you exercising more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re questions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19440" y="1316160"/>
            <a:ext cx="1905120" cy="1599840"/>
            <a:chOff x="3619440" y="1316160"/>
            <a:chExt cx="1905120" cy="1599840"/>
          </a:xfrm>
        </p:grpSpPr>
        <p:sp>
          <p:nvSpPr>
            <p:cNvPr id="299" name=""/>
            <p:cNvSpPr/>
            <p:nvPr/>
          </p:nvSpPr>
          <p:spPr>
            <a:xfrm>
              <a:off x="3619440" y="1316160"/>
              <a:ext cx="190512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95760" y="1316160"/>
              <a:ext cx="18288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1:30 a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mol/d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our glucose averages 55 mg / dL before lunch. You may want to try a larger breakfas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13280" y="30686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16352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745160"/>
            <a:ext cx="1905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745160"/>
            <a:ext cx="18288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mol/d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many carbs will you have for l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4745160"/>
            <a:ext cx="190476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45160"/>
            <a:ext cx="18288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:02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lucose 9.4 mmol/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ulin Dose Estim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0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0 M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522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 5 Supplemental Diagnosti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K) p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10280" y="5902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5140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9000" y="4454640"/>
            <a:ext cx="5562720" cy="228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4683240"/>
            <a:ext cx="1981440" cy="1798200"/>
            <a:chOff x="609480" y="4683240"/>
            <a:chExt cx="1981440" cy="1798200"/>
          </a:xfrm>
        </p:grpSpPr>
        <p:sp>
          <p:nvSpPr>
            <p:cNvPr id="312" name=""/>
            <p:cNvSpPr/>
            <p:nvPr/>
          </p:nvSpPr>
          <p:spPr>
            <a:xfrm>
              <a:off x="609480" y="4744800"/>
              <a:ext cx="1905120" cy="159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4683240"/>
              <a:ext cx="198144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2:02 p.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Lun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 large salad  30 ca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 small coke   20 car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d another. Press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tal:           50 carbs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3:50:55Z</dcterms:created>
  <dc:creator>mcheney</dc:creator>
  <dc:description/>
  <dc:language>en-US</dc:language>
  <cp:lastModifiedBy>John</cp:lastModifiedBy>
  <dcterms:modified xsi:type="dcterms:W3CDTF">2012-10-22T21:59:08Z</dcterms:modified>
  <cp:revision>9</cp:revision>
  <dc:subject/>
  <dc:title>PowerPoint Presentation</dc:title>
</cp:coreProperties>
</file>